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2639-6009-4CBA-B920-83BA0F5F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ECDE-E8EB-445B-9238-8BC3EEA6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58A-4307-4674-9E05-3D02100E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6F97-1917-415F-9948-DFF5E900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400-048E-4D22-9D1B-C61BD611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01F6-57C0-4BE6-90B6-E6E55411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D860-CDE8-4929-B816-2D4DD3BF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EA7F-0A56-4CA7-B146-DB1D7D90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24F-EFC7-4C93-B6BB-5670CE2B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CB7-6247-4FA9-A827-9CAAE3C4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CB5A-9844-467F-AFF6-804D9083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35BA-B2D3-4C23-8E1D-370DD6CA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2757-64FE-4609-A691-72E13CF43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adalyn Sp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 -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msstate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0880" y="16002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to 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msphil.jpg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msfav.jpg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1599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Athens and Spar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mswar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1600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ms.gif"/>
          <p:cNvPicPr/>
          <p:nvPr/>
        </p:nvPicPr>
        <p:blipFill>
          <a:blip r:embed="rId1"/>
          <a:stretch/>
        </p:blipFill>
        <p:spPr>
          <a:xfrm>
            <a:off x="0" y="3105000"/>
            <a:ext cx="91440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880" y="16002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along a coast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mszsssss.jpg"/>
          <p:cNvPicPr/>
          <p:nvPr/>
        </p:nvPicPr>
        <p:blipFill>
          <a:blip r:embed="rId1"/>
          <a:stretch/>
        </p:blipFill>
        <p:spPr>
          <a:xfrm>
            <a:off x="0" y="2262240"/>
            <a:ext cx="91440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greece-athens.com/gallery_images/56.jpg"/>
          <p:cNvPicPr/>
          <p:nvPr/>
        </p:nvPicPr>
        <p:blipFill>
          <a:blip r:embed="rId1"/>
          <a:srcRect l="0" t="0" r="0" b="23196"/>
          <a:stretch/>
        </p:blipFill>
        <p:spPr>
          <a:xfrm>
            <a:off x="0" y="2112840"/>
            <a:ext cx="91440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sgreece.bmp"/>
          <p:cNvPicPr/>
          <p:nvPr/>
        </p:nvPicPr>
        <p:blipFill>
          <a:blip r:embed="rId1"/>
          <a:stretch/>
        </p:blipFill>
        <p:spPr>
          <a:xfrm>
            <a:off x="0" y="2381400"/>
            <a:ext cx="91440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880" y="15998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63360" y="-906480"/>
            <a:ext cx="2409840" cy="18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sassembly.bmp"/>
          <p:cNvPicPr/>
          <p:nvPr/>
        </p:nvPicPr>
        <p:blipFill>
          <a:blip r:embed="rId1"/>
          <a:stretch/>
        </p:blipFill>
        <p:spPr>
          <a:xfrm>
            <a:off x="0" y="2865600"/>
            <a:ext cx="91440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6002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msperson.bmp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d apart from Greece but keep economic ties with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mscolony.png"/>
          <p:cNvPicPr/>
          <p:nvPr/>
        </p:nvPicPr>
        <p:blipFill>
          <a:blip r:embed="rId1"/>
          <a:stretch/>
        </p:blipFill>
        <p:spPr>
          <a:xfrm>
            <a:off x="0" y="2666880"/>
            <a:ext cx="91630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3520" y="16002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msdemoc..jpg"/>
          <p:cNvPicPr/>
          <p:nvPr/>
        </p:nvPicPr>
        <p:blipFill>
          <a:blip r:embed="rId1"/>
          <a:stretch/>
        </p:blipFill>
        <p:spPr>
          <a:xfrm>
            <a:off x="0" y="2616120"/>
            <a:ext cx="914400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msjury.gif"/>
          <p:cNvPicPr/>
          <p:nvPr/>
        </p:nvPicPr>
        <p:blipFill>
          <a:blip r:embed="rId1"/>
          <a:stretch/>
        </p:blipFill>
        <p:spPr>
          <a:xfrm>
            <a:off x="65160" y="2743200"/>
            <a:ext cx="9078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rul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msmon.jpg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2T00:48:09Z</dcterms:modified>
  <cp:revision>96</cp:revision>
  <dc:subject/>
  <dc:title>Ancient Greece</dc:title>
</cp:coreProperties>
</file>